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0AD-75B3-4A48-8B24-D85C9225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7CD-C868-4AF8-A0A3-FC37667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EF2-7114-4D06-956C-27333171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290-A390-4C3F-B7AF-9A244CEE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0DB-56FF-499B-B301-DEBE9E0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EE9-9D06-4ABA-A226-89B1AA5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011-1A3E-4550-B1DD-698548A9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C0A-EBEC-4C77-93BE-7BD675ED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4B4-D43A-4D7C-BA35-292540A4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567-0BFD-4A6B-A64D-7D521AC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5AE-6992-45C5-9BA8-7AF21BE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D8E-4B2C-483D-BB8F-6350242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C75-BA7A-48BA-BE16-D2294082B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Woody All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360" y="4076280"/>
            <a:ext cx="6765840" cy="2019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3399"/>
                </a:solidFill>
                <a:latin typeface="Forte"/>
              </a:rPr>
              <a:t>Disfrùtenlo…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nos matrimonios acaban bien, otros duran toda la v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pollo as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mistad es como la may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arihuana causa amnesia y... otras cosas que no me acuer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Forte"/>
              </a:rPr>
              <a:t>Hasta la próxima. . . . 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Forte"/>
              </a:rPr>
              <a:t>  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hacer p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>Iñaki</dc:creator>
  <dc:description/>
  <dc:language>en-US</dc:language>
  <cp:lastModifiedBy>Pedro Hilario Silva</cp:lastModifiedBy>
  <dcterms:modified xsi:type="dcterms:W3CDTF">2010-11-27T18:30:01Z</dcterms:modified>
  <cp:revision>8</cp:revision>
  <dc:subject/>
  <dc:title>WOODY ALLEN</dc:title>
</cp:coreProperties>
</file>